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327E-4B22-4038-8466-34B4B3F994BD}" type="slidenum">
              <a:rPr b="0" lang="bg-B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FDC0-57B8-4DC6-934B-B8BBC316C21F}" type="slidenum">
              <a:rPr b="0" lang="bg-BG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6C66-DC18-4A77-A746-4F7F856530CD}" type="slidenum">
              <a:rPr b="0" lang="bg-BG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3E7-C090-4CA0-9D8F-AD2487FE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C97-FBFB-44E3-9D8F-E7233D52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04E-3DB7-4D46-BAB6-8335E99D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4E8-56D4-4E86-9F52-21C736BC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1F9AD-FDF3-47D2-8B7B-720ED9D1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A18ED-93D2-424F-AA69-5CE411E2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904EB-857C-4704-9A32-312877B4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9DC47-8B0C-4FF3-B309-ACC650EA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6D6F8-4539-479E-84E7-B14ABC54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6460E-1C95-4438-8DEC-E18CEF99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D574D-7DF3-4543-879E-9132336F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E3E-BD80-4DFC-B204-9A83E534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8F682-206A-4689-9D4F-B25004CC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B505B-2724-4A7B-ACFF-84F09CCE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26B06-0758-4860-BF35-CBE9650B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B6E3F-98BA-4C3C-BB9B-EA106D4C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E54D1-986F-482B-8589-A49F5EAC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143-6D90-4B2D-8266-8921B168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F5A-9AE8-4E5E-9535-9285827C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4F8-E983-4312-922F-4C9D07D7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601-25C5-4F04-9F35-3B177476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C746-D7D0-41E2-92F1-8855C54D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73C-4523-4288-92A2-4C19FBE5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C10F-6714-4F26-9459-E50D7123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CD5A-A8E5-43D0-8E76-D4B75944B809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B95B-C510-4731-8F26-6A6C40E4F27D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0" y="1916280"/>
            <a:ext cx="914400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ЛАВНА ДИРЕКЦ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ОГРАМИРАНЕ НА РЕГИОНАЛНОТО РАЗВИТ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ГОДИШЕН ДОКЛАД ЗА ИЗПЪЛН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Оперативна програма “Регионално развитие” 2007-2013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за 20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2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5.2013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Соф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250920" y="2133720"/>
            <a:ext cx="871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Договорени средства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29 млн.ев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Изплатени средства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14 млн.ев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ертифицирани средства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8 млн.ев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иключени проекти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34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18 за подобряване на образователна инфраструктура, 6 за превенция от свлачища и 10 за  междурегионално сътрудничество</a:t>
            </a:r>
            <a:r>
              <a:rPr b="0" lang="bg-BG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547640" y="1413000"/>
            <a:ext cx="759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Приоритетна ос 4: Местно развитие и сътрудниче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2204640"/>
            <a:ext cx="48243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Подобрена образователна инфраструктура (бр.)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5 сгра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Население, облагодетелствано от превенция на свлачищните процеси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6 хил.душ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Брой иновативни практики, обменени и приложени на базата на междурегионално сътрудничество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Брой проведени междурегионални събития  с 1896 участници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1547640" y="1197000"/>
            <a:ext cx="759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Приоритетна ос 4: Местно развитие и сътрудниче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8" descr="C:\Documents and Settings\ElenkovaZ\Desktop\DSC01142 -1.JPG"/>
          <p:cNvPicPr/>
          <p:nvPr/>
        </p:nvPicPr>
        <p:blipFill>
          <a:blip r:embed="rId2"/>
          <a:stretch/>
        </p:blipFill>
        <p:spPr>
          <a:xfrm>
            <a:off x="5157720" y="2349360"/>
            <a:ext cx="3797280" cy="1965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Documents and Settings\ElenkovaZ\Desktop\CDG Zwezdichka (12).JPG"/>
          <p:cNvPicPr/>
          <p:nvPr/>
        </p:nvPicPr>
        <p:blipFill>
          <a:blip r:embed="rId3"/>
          <a:stretch/>
        </p:blipFill>
        <p:spPr>
          <a:xfrm>
            <a:off x="5157720" y="4389480"/>
            <a:ext cx="3797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Договор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5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Изплат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6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,7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9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приключили проекта, в резултат на кои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Предоставени специализирани юридически услуг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Оптимизирани системи и процедури за управление, изпълнение и контро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Разработен пакет документи за модернизация и развитие на устойчив градски транспорт  в петте големи гр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Осигурени външни експерти за осъществяване на предварителен контрол и участие в комисии за оценка на оферти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Комуникация, информация и публичност по ОПР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Укрепен капацитет на УО на ОПРР за управление и изпълнение на програма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1547640" y="148428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ТЕХНИЧЕСКА ПОМО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46083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ведени информационни дни и обучения за електронно кандидатстване по обявени схеми за БФ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cc"/>
                </a:solidFill>
                <a:latin typeface="Tahoma"/>
              </a:rPr>
              <a:t>Проведени 23 официални церемонии по подписване на догов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Изготвени рекламни и информационни материа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cc"/>
                </a:solidFill>
                <a:latin typeface="Tahoma"/>
              </a:rPr>
              <a:t>Осигуряване на достъпност, публичност и прозрачност чрез електронни мед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1136520" y="1413000"/>
            <a:ext cx="75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ИНФОРМАЦИЯ И</a:t>
            </a: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УБЛИЧНОС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513240" cy="216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podpisvane na dogovori 002 june 2012-1"/>
          <p:cNvPicPr/>
          <p:nvPr/>
        </p:nvPicPr>
        <p:blipFill>
          <a:blip r:embed="rId3"/>
          <a:stretch/>
        </p:blipFill>
        <p:spPr>
          <a:xfrm>
            <a:off x="5219640" y="4292640"/>
            <a:ext cx="35132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БЛАГОДАРЯ ЗА ВНИМАНИЕТО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Ръководител на УО на ОПРР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Главен директор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ГД “Програмиране на регионалното развитие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6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.0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.201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3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.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р.Соф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1"/>
          <p:cNvSpPr/>
          <p:nvPr/>
        </p:nvSpPr>
        <p:spPr>
          <a:xfrm>
            <a:off x="1547640" y="1484280"/>
            <a:ext cx="75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ОБЩ ПРЕГЛЕД НА ИЗПЪЛНЕНИЕТО ЗА 2012 г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179280" y="2205000"/>
            <a:ext cx="885672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бявени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 покани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по схеми за предоставяне на безвъзмездна финансова помощ на обща стойност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109 млн.евро (3,5 % от бюджета на ОПРР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добрени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98 проектни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ключени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257 договора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за предоставяне на безвъзмездна финансова помощ на обща стойност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412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зплатени общо средства за 2012 г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235 млн.евро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от кои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- авансови плащания – 112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- междинни и окончателни плащания – 123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Темп на извършените плащаният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към 31.12.2012 г. спрямо извършените плащания към 31.12.2011 г. е увеличен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2 пъти </a:t>
            </a:r>
            <a:r>
              <a:rPr b="1" i="1" lang="bg-BG" sz="1800" spc="-1" strike="noStrike">
                <a:solidFill>
                  <a:srgbClr val="000066"/>
                </a:solidFill>
                <a:latin typeface="Tahoma"/>
              </a:rPr>
              <a:t>(към 31.12.2011г. – 323 мнл.евро, а към 31.12.2012 г. – 558 млн.евр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20d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20d16"/>
                </a:solidFill>
                <a:latin typeface="Tahoma"/>
              </a:rPr>
              <a:t>Сертифицирани средства от СО за 2012 г. </a:t>
            </a:r>
            <a:r>
              <a:rPr b="1" lang="en-US" sz="1800" spc="-1" strike="noStrike">
                <a:solidFill>
                  <a:srgbClr val="020d16"/>
                </a:solidFill>
                <a:latin typeface="Tahoma"/>
              </a:rPr>
              <a:t>-</a:t>
            </a:r>
            <a:r>
              <a:rPr b="1" lang="bg-BG" sz="1800" spc="-1" strike="noStrike">
                <a:solidFill>
                  <a:srgbClr val="082d4c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83 млн. Евро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i="1" lang="bg-BG" sz="1800" spc="-1" strike="noStrike">
                <a:solidFill>
                  <a:srgbClr val="000066"/>
                </a:solidFill>
                <a:latin typeface="Tahoma"/>
              </a:rPr>
              <a:t>над 3 пъти повече в сравнение с 2011г. – 53 млн.евр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82d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Брой приключили проекти през 2012 г.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5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547640" y="156996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зпълнение на прогнозите по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Lothar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към 31.12.201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 съответствие с правилото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N+2/N+3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79280" y="2276640"/>
            <a:ext cx="878544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ертифицирани кумулативни прогнозни разходи към 31.12.2012г. –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299,7 млн.евро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– съфинансиране от ЕФРР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ертифицирани кумулативни разходи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о ОПРР - </a:t>
            </a:r>
            <a:r>
              <a:rPr b="1" lang="en-GB" sz="1800" spc="-1" strike="noStrike">
                <a:solidFill>
                  <a:srgbClr val="c00000"/>
                </a:solidFill>
                <a:latin typeface="Tahoma"/>
              </a:rPr>
              <a:t>30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6 млн. евро</a:t>
            </a:r>
            <a:r>
              <a:rPr b="0" lang="bg-BG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1</a:t>
            </a:r>
            <a:r>
              <a:rPr b="1" lang="en-GB" sz="1800" spc="-1" strike="noStrike">
                <a:solidFill>
                  <a:srgbClr val="c00000"/>
                </a:solidFill>
                <a:latin typeface="Tahoma"/>
              </a:rPr>
              <a:t>02.3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%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прямо прогнозата в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thar system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Само за 2012 г. са сертифицирани разходи от 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155 млн.евро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- съфинансиране от ЕФ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d14"/>
                </a:solidFill>
                <a:uFillTx/>
                <a:latin typeface="Tahoma"/>
              </a:rPr>
              <a:t>Постигната е целта за усвояване към 31.12.2012г. и не е налице загуба на средства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от прилагане на правилото </a:t>
            </a:r>
            <a:r>
              <a:rPr b="1" lang="en-US" sz="1800" spc="-1" strike="noStrike">
                <a:solidFill>
                  <a:srgbClr val="000d14"/>
                </a:solidFill>
                <a:latin typeface="Tahoma"/>
              </a:rPr>
              <a:t>N+3/N+2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 за 2012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444600" y="11095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250920" y="2685960"/>
            <a:ext cx="8642160" cy="61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Забавяне на изпълнението на част от договорите за безвъзмездна финансова помо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ъвместни срещи с бенефициентите  с установени рискови проекти и обсъждане на възможни сценарии за постигане на заложените цели и резулта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егулярен мониторинг – периодична актуализация на анализа на рискови проек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d14"/>
                </a:solidFill>
                <a:latin typeface="Tahoma"/>
              </a:rPr>
              <a:t>Констатирани пропуски/слабости при провеждане на процедурите по възлагане на обществените поръч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съществяване на предварителен контрол както от АОП (с посл. изм. на ЗОП), така и от УО на ОП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ключени договори с външни изпълнители за предоставяне на юридически услуг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16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3"/>
          <p:cNvSpPr/>
          <p:nvPr/>
        </p:nvSpPr>
        <p:spPr>
          <a:xfrm>
            <a:off x="1547640" y="141300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редизвикателства и мерки, предприети за разрешаването им (</a:t>
            </a:r>
            <a:r>
              <a:rPr b="1" lang="en-GB" sz="22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3"/>
          <p:cNvSpPr/>
          <p:nvPr/>
        </p:nvSpPr>
        <p:spPr>
          <a:xfrm>
            <a:off x="1547640" y="141300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редизвикателства и мерки, предприети за разрешаването им (2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79280" y="1844640"/>
            <a:ext cx="871380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Установени слабости/пропуски при изпълнението на инфраструктурните проекти от бенефициентит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ъществяване на 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вътрешен мониторинг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”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от страна на бенефициента върху договорите с изпълнители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ключване на 9 договори с външни изпълнители за осъществяване на инвеститорски контрол посредством извършване проверки на мяс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Изпълнение на Годишен план за проверки на място на приключили проек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d14"/>
                </a:solidFill>
                <a:latin typeface="Tahoma"/>
              </a:rPr>
              <a:t>Необходимост от укрепване на капацитета на бенефициентит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Изпълнение на договор по ПО „Техническа помощ“ - „Разработване на специфично обучение по операции за бенефициенти и консултиране по разработване и изпълнение на проекти по ОПРР“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Проведени 68 обучения в България и страни-членки на Е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	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- Обучени 828 представители на бенефициенти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	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- Осъществени 21 учебни пътувания в чужбина с 251 участниц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971640" y="1557360"/>
            <a:ext cx="7524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Tahoma"/>
              </a:rPr>
              <a:t>ИЗПЪЛНЕНИЕ ПО ПРИОРИТЕТНИ ОСИ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C:\Documents and Settings\ElenkovaZ\Desktop\Морска-градина-Бургас 1.JPG"/>
          <p:cNvPicPr/>
          <p:nvPr/>
        </p:nvPicPr>
        <p:blipFill>
          <a:blip r:embed="rId2"/>
          <a:stretch/>
        </p:blipFill>
        <p:spPr>
          <a:xfrm>
            <a:off x="179280" y="3357720"/>
            <a:ext cx="4392720" cy="2893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Documents and Settings\ElenkovaZ\Desktop\park arpezos (5).jpg"/>
          <p:cNvPicPr/>
          <p:nvPr/>
        </p:nvPicPr>
        <p:blipFill>
          <a:blip r:embed="rId3"/>
          <a:stretch/>
        </p:blipFill>
        <p:spPr>
          <a:xfrm>
            <a:off x="4741920" y="3363840"/>
            <a:ext cx="42670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ДРУГИ УЛЕСНЕНИЯ ЗА БЕНЕФИЦИЕНТИТЕ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79280" y="2637000"/>
            <a:ext cx="871380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9"/>
          <p:cNvSpPr/>
          <p:nvPr/>
        </p:nvSpPr>
        <p:spPr>
          <a:xfrm>
            <a:off x="1441440" y="1424160"/>
            <a:ext cx="7666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Приоритетна ос 1: Устойчиво и интегрирано градско развит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92240" y="1557360"/>
            <a:ext cx="4824360" cy="53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Договорени средства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276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Изплатени средства –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 121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103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Приключени проекти -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Подобрена образователна, културна и социална инфраструктура (бр.)–226 сград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Население облагодетелствано от укрепването на свлачища – 481 хил. душ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C:\Documents and Settings\ElenkovaZ\Desktop\544802_418350284851425_172028904_n.jpg"/>
          <p:cNvPicPr/>
          <p:nvPr/>
        </p:nvPicPr>
        <p:blipFill>
          <a:blip r:embed="rId2"/>
          <a:stretch/>
        </p:blipFill>
        <p:spPr>
          <a:xfrm>
            <a:off x="4998960" y="2060640"/>
            <a:ext cx="3919680" cy="2300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G:\ПОИП\Снимки - презентация\ПО 1\_5022217.JPG"/>
          <p:cNvPicPr/>
          <p:nvPr/>
        </p:nvPicPr>
        <p:blipFill>
          <a:blip r:embed="rId3"/>
          <a:stretch/>
        </p:blipFill>
        <p:spPr>
          <a:xfrm>
            <a:off x="5005440" y="4505400"/>
            <a:ext cx="394812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-17640" y="1197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96920" y="2060640"/>
            <a:ext cx="89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Договор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5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Изплат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72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53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20b12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20b12"/>
                </a:solidFill>
                <a:latin typeface="Tahoma"/>
              </a:rPr>
              <a:t>Приключени проекти – </a:t>
            </a:r>
            <a:r>
              <a:rPr b="1" lang="bg-BG" sz="1800" spc="-1" strike="noStrike">
                <a:solidFill>
                  <a:srgbClr val="000099"/>
                </a:solidFill>
                <a:latin typeface="Tahoma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6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161616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99"/>
                </a:solidFill>
                <a:latin typeface="Tahoma"/>
              </a:rPr>
              <a:t>рехабилитирани /реконструирани 340,255 км републиканска и общинска пътна мреж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C:\Documents and Settings\ElenkovaZ\Desktop\DSC08579.JPG"/>
          <p:cNvPicPr/>
          <p:nvPr/>
        </p:nvPicPr>
        <p:blipFill>
          <a:blip r:embed="rId1"/>
          <a:stretch/>
        </p:blipFill>
        <p:spPr>
          <a:xfrm>
            <a:off x="4967280" y="4054320"/>
            <a:ext cx="3749760" cy="264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1440" y="-1908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1835280" y="1330200"/>
            <a:ext cx="76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Приоритетна ос 2: Регионална и местна достъпнос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F:\Северозападен район 04-02-2013\2.1\2.1Mezdra- put\P1060660.JPG"/>
          <p:cNvPicPr/>
          <p:nvPr/>
        </p:nvPicPr>
        <p:blipFill>
          <a:blip r:embed="rId3"/>
          <a:stretch/>
        </p:blipFill>
        <p:spPr>
          <a:xfrm>
            <a:off x="539640" y="4049640"/>
            <a:ext cx="38163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6"/>
          <p:cNvSpPr/>
          <p:nvPr/>
        </p:nvSpPr>
        <p:spPr>
          <a:xfrm>
            <a:off x="1596960" y="1677960"/>
            <a:ext cx="63374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Договорени средства – 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56 млн.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Изплатени средства – 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22 млн.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Сертифицирани средства – 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15 млн.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61616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161616"/>
                </a:solidFill>
                <a:latin typeface="Tahoma"/>
              </a:rPr>
              <a:t>Приключени проекти – 8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61616"/>
                </a:solidFill>
                <a:latin typeface="Tahoma"/>
              </a:rPr>
              <a:t>   </a:t>
            </a:r>
            <a:r>
              <a:rPr b="1" lang="bg-BG" sz="1800" spc="-1" strike="noStrike">
                <a:solidFill>
                  <a:srgbClr val="161616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99"/>
                </a:solidFill>
                <a:latin typeface="Tahoma"/>
              </a:rPr>
              <a:t>развити туристически атракции/обекти – 6 б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99"/>
                </a:solidFill>
                <a:latin typeface="Tahoma"/>
              </a:rPr>
              <a:t>подкрепени национални програми за маркетинг и реклама и проекти за развитие  на продукти и маркетинг на дестинациите – 2 б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47"/>
          <p:cNvSpPr/>
          <p:nvPr/>
        </p:nvSpPr>
        <p:spPr>
          <a:xfrm>
            <a:off x="1649520" y="1479600"/>
            <a:ext cx="76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Приоритетна ос 3: Устойчиво развитие на туриз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4778280" y="4724280"/>
            <a:ext cx="3990960" cy="2005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Documents and Settings\ElenkovaZ\Desktop\bel.jpg"/>
          <p:cNvPicPr/>
          <p:nvPr/>
        </p:nvPicPr>
        <p:blipFill>
          <a:blip r:embed="rId3"/>
          <a:stretch/>
        </p:blipFill>
        <p:spPr>
          <a:xfrm>
            <a:off x="250920" y="4724280"/>
            <a:ext cx="413676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48:26Z</dcterms:created>
  <dc:creator>MikovaD</dc:creator>
  <dc:description/>
  <dc:language>en-US</dc:language>
  <cp:lastModifiedBy>Zornitsa Elenkova</cp:lastModifiedBy>
  <cp:lastPrinted>2013-04-24T11:34:38Z</cp:lastPrinted>
  <dcterms:modified xsi:type="dcterms:W3CDTF">2013-05-10T11:45:00Z</dcterms:modified>
  <cp:revision>214</cp:revision>
  <dc:subject/>
  <dc:title>Slide 1</dc:title>
</cp:coreProperties>
</file>